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CD5-CCA2-48B7-8241-AB60682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D85-7A53-4B9F-8F51-5314FE8F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680-92FD-45B3-B598-D8C4B721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92E-1EBC-4C81-AA5A-175296A2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61C-658F-4BE7-ADD5-F1CCFA9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106-2190-4CBB-B146-C190639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103-7486-4A37-BFF5-90CD87A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9E8-CF35-44ED-A3FD-1DB2A379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E0B-C45C-4D55-8F88-DDE4417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C79-6219-47DD-9567-B7B33CE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98D-AC52-429D-88C2-9CEE61FB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CDC-9539-4473-8A7C-1B9EA89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DA8-0816-4DC6-AB2C-24C7DAED7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99320" y="2482920"/>
            <a:ext cx="1562040" cy="2817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3280" y="2725560"/>
            <a:ext cx="1195560" cy="6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3586320"/>
            <a:ext cx="1195560" cy="62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3280" y="4465800"/>
            <a:ext cx="1195560" cy="62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20800" y="2482920"/>
            <a:ext cx="1562040" cy="2817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59240" y="2779560"/>
            <a:ext cx="2243160" cy="2244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725560"/>
            <a:ext cx="1195200" cy="6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3586320"/>
            <a:ext cx="1195200" cy="62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465800"/>
            <a:ext cx="1195200" cy="62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02000" y="3619440"/>
            <a:ext cx="12528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14800" y="3619440"/>
            <a:ext cx="12528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3586320"/>
            <a:ext cx="1195200" cy="626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3500000">
            <a:off x="3430440" y="3687480"/>
            <a:ext cx="347760" cy="3477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20480" y="3619440"/>
            <a:ext cx="12564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634000" y="3619440"/>
            <a:ext cx="125280" cy="5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8100000">
            <a:off x="5383080" y="3692880"/>
            <a:ext cx="349200" cy="3477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04T00:35:02Z</dcterms:modified>
  <cp:revision>11</cp:revision>
  <dc:subject/>
  <dc:title>新規</dc:title>
</cp:coreProperties>
</file>